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249E-AD13-4144-BBBA-5B29008F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D81F-0F8B-4CBD-9986-3DCD41EB00D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03B-64CD-4E29-8E0E-C9CFC0BEAD8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79C2-88AA-4C5E-AF56-7E1E79DE60A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2983-D36F-40EE-811D-031FBC56720A}" type="slidenum">
              <a:rPr b="0" lang="en-US" sz="12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There are tutorials on notecards, tagging and other features of the Tabletop here: http://www.noodletools.com/helpdesk/index.php?action=downloads#category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1E7-9E47-420C-9133-BB9EFC91B26B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C439-D0F7-43A8-AB9B-4E182B46A3F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CBCA-BAAA-4086-9DB7-EA8CCF4BF5C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AC8-F754-469F-8DC1-99DC60D4CFE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Overview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5B93-96D4-4C4A-BBB2-EDA630951C6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17E-B03B-4E88-9FEE-26F469E4BDA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NavigatingTheTableto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81E-71E4-4E12-A917-A0BF0A21250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WhyUseAnOutl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263F-95E0-4ADC-9497-329F9471EA9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D757-8EED-402A-A69C-C4760A4ACEC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165A-984B-432C-984A-159E57BFDD1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A481-01F2-420B-83B8-0F036B772F34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A2B-0FE0-46E6-A7A7-DE7FFB47AB9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03A-0EBF-40AF-AF06-6288CC31BC17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20B5-0DF0-433C-B1B3-CAECAAA3C6F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13DF-0D2F-4008-AE07-E7DE39CDC1C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Overview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D788-B2A6-4D38-9AD0-D33C8EFD0FB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1EEE-EF8F-4B79-B8EF-39F9D9724A4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88AB-0CF8-43B1-952B-426007C9DFE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4C1-E58B-4A75-A413-21E51E0098AD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6E4D-D07A-482B-81A8-FEB91919B5E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68FD-47A1-4114-8348-2F1F49BB51D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43D3-1025-4100-87FE-6F3FA1A7495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CreatingANotecar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7A6B-629E-4D72-98AA-2235020564F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0D5-7E7C-4137-AE75-96091EAA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08F-B7E3-4C44-BF94-D965A4CD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C86-0A4A-499D-8BDA-2AE642E9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256-0E6C-4C8E-82EF-E5DF0D81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A96-5930-4488-B9B3-119E4865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468-7136-4D69-9D90-B930BE5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15E-0834-4F30-AF03-2B464724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2E9-8B88-4070-B41D-B16DEE95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735-1842-466F-9221-4AF637F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F83-B5B3-445F-9DB9-95CD855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CF3-6B41-40AC-B5A7-7024E0FD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2C6-E7C7-47E4-8667-A102058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167B-C14F-40AE-90D8-075590730E60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Tools </a:t>
            </a:r>
            <a:br>
              <a:rPr sz="4400"/>
            </a:b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Helps you stay organized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ing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0" y="-130320"/>
            <a:ext cx="9144000" cy="704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157720" y="66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73544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52480" y="5664240"/>
            <a:ext cx="541044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Everything stays linke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3" name="Double Bracket 7"/>
          <p:cNvSpPr/>
          <p:nvPr/>
        </p:nvSpPr>
        <p:spPr>
          <a:xfrm>
            <a:off x="304920" y="76320"/>
            <a:ext cx="8305560" cy="5638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6766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4560"/>
          </a:xfrm>
          <a:prstGeom prst="rect">
            <a:avLst/>
          </a:prstGeom>
          <a:ln w="0">
            <a:noFill/>
          </a:ln>
        </p:spPr>
      </p:pic>
      <p:sp>
        <p:nvSpPr>
          <p:cNvPr id="86" name="Oval 1"/>
          <p:cNvSpPr/>
          <p:nvPr/>
        </p:nvSpPr>
        <p:spPr>
          <a:xfrm>
            <a:off x="4952880" y="76320"/>
            <a:ext cx="11430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71680" y="5873760"/>
            <a:ext cx="8001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Go to the tabletop to see all your notecard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4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2280" y="5873760"/>
            <a:ext cx="8915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Check the bird’s eye view for out-of-sight notecard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  <p:cxnSp>
        <p:nvCxnSpPr>
          <p:cNvPr id="90" name="Straight Arrow Connector 4"/>
          <p:cNvCxnSpPr/>
          <p:nvPr/>
        </p:nvCxnSpPr>
        <p:spPr>
          <a:xfrm flipH="1">
            <a:off x="990000" y="1981080"/>
            <a:ext cx="1524600" cy="289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257480" y="106200"/>
            <a:ext cx="66294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 notecard is an organizer for idea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5800" y="1828800"/>
            <a:ext cx="3581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 and paste here</a:t>
            </a:r>
            <a:br>
              <a:rPr sz="2800"/>
            </a:b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Capture the author’s words and images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Mark up the quote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28800" y="106200"/>
            <a:ext cx="48769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Paraphrase or summariz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05520" y="26686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phrase her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Explain it to yourself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In words you understand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Look back at the quote – got it all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590920" y="4952880"/>
            <a:ext cx="3624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iginal thinking her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What do you wonder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How does this fit with what you know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What can you follow up on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06200"/>
            <a:ext cx="8229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My Ideas” is for questions, brainstorming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Debbie\Documents\1.Debbie\NoodleTools\Tutorials\Students\2012\2012 imagesNotes\second\notecard_copypaste.png"/>
          <p:cNvPicPr/>
          <p:nvPr/>
        </p:nvPicPr>
        <p:blipFill>
          <a:blip r:embed="rId1"/>
          <a:stretch/>
        </p:blipFill>
        <p:spPr>
          <a:xfrm>
            <a:off x="2232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609480" y="5334120"/>
            <a:ext cx="7620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2057400" y="166680"/>
            <a:ext cx="4876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Then start to mark it up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Debbie\Documents\1.Debbie\NoodleTools\Tutorials\Students\2012\2012 imagesNotes\second\notecard_red.png"/>
          <p:cNvPicPr/>
          <p:nvPr/>
        </p:nvPicPr>
        <p:blipFill>
          <a:blip r:embed="rId1"/>
          <a:stretch/>
        </p:blipFill>
        <p:spPr>
          <a:xfrm>
            <a:off x="2232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  <a:ea typeface="ＭＳ Ｐゴシック"/>
              </a:rPr>
              <a:t>What is </a:t>
            </a:r>
            <a:r>
              <a:rPr b="0" lang="en-US" sz="3600" spc="-1" strike="noStrike">
                <a:solidFill>
                  <a:srgbClr val="2a475c"/>
                </a:solidFill>
                <a:latin typeface="Arial"/>
                <a:ea typeface="ＭＳ Ｐゴシック"/>
              </a:rPr>
              <a:t>NoodleTools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  <a:ea typeface="ＭＳ Ｐゴシック"/>
              </a:rPr>
              <a:t>Gather, organize, think, creat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Begin a working bibliography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Copy-and-paste relevant quotes onto notecard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Paraphrase the author</a:t>
            </a:r>
            <a:r>
              <a:rPr b="0" lang="ja-JP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’</a:t>
            </a: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s word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Analyze, question and add your own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Tag and pile your notes – what emerges? 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Create an outline, add piles – reorder and experiment!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Create [essay, speech, product…] with a bibliography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461880" y="4952880"/>
            <a:ext cx="7996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Close reading boosts your comprehens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352680" y="5335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57440" y="1522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743200" y="380880"/>
            <a:ext cx="419112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7620120" y="1447920"/>
            <a:ext cx="99036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86440" y="153180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1006560" y="3962520"/>
            <a:ext cx="69339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75c"/>
                </a:solidFill>
                <a:latin typeface="Arial"/>
              </a:rPr>
              <a:t>If you have trouble identifying a main idea: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Reread the quote to get the “gist.”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Is there more than one main idea? If so, just split your quote into two notecards.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7" name="Oval 2"/>
          <p:cNvSpPr/>
          <p:nvPr/>
        </p:nvSpPr>
        <p:spPr>
          <a:xfrm>
            <a:off x="7618320" y="3886200"/>
            <a:ext cx="990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83560" y="397044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1271520" y="3809880"/>
            <a:ext cx="66009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“My Ideas” in a flexible wa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533520" y="1143000"/>
            <a:ext cx="3657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f your note isn’t linked to a source, find it in this list of all your sourc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09480" y="228600"/>
            <a:ext cx="5181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f you can, add a tag now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5791320" y="914400"/>
            <a:ext cx="1143000" cy="95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1"/>
          <p:cNvSpPr/>
          <p:nvPr/>
        </p:nvSpPr>
        <p:spPr>
          <a:xfrm>
            <a:off x="4191120" y="990720"/>
            <a:ext cx="1295280" cy="26668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2666880"/>
              <a:gd name="textAreaBottom" fmla="*/ 2603880 h 2666880"/>
            </a:gdLst>
            <a:ahLst/>
            <a:rect l="textAreaLeft" t="textAreaTop" r="textAreaRight" b="textAreaBottom"/>
            <a:pathLst>
              <a:path w="21600" h="44466">
                <a:moveTo>
                  <a:pt x="3600" y="0"/>
                </a:moveTo>
                <a:arcTo wR="3600" hR="3600" stAng="16200000" swAng="-5400000"/>
                <a:lnTo>
                  <a:pt x="0" y="40866"/>
                </a:lnTo>
                <a:arcTo wR="3600" hR="3600" stAng="10800000" swAng="-5400000"/>
                <a:lnTo>
                  <a:pt x="18000" y="44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09480" y="228600"/>
            <a:ext cx="7315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hen you know more it will be easier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114480" y="5638680"/>
            <a:ext cx="8915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r new notecards are waiting on the tabletop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76320" y="1698480"/>
            <a:ext cx="914400" cy="1676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029200" y="76320"/>
            <a:ext cx="9144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152280" y="5562720"/>
            <a:ext cx="8839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Add colors and cues to remind yourself what needs to be done and what’s important.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990720" y="914400"/>
            <a:ext cx="6858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r work is organized into projects.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 flipV="1">
            <a:off x="1752480" y="3962520"/>
            <a:ext cx="9144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6858000" y="1676160"/>
            <a:ext cx="1447920" cy="3733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93560" y="5257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Open an existing project …or start a new on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990720" y="5638680"/>
            <a:ext cx="7086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earch tags to highlight related idea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5943600" y="838080"/>
            <a:ext cx="1523880" cy="784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228600" y="5643720"/>
            <a:ext cx="8763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Create a new pile from your highlighted notecard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76320" y="5638680"/>
            <a:ext cx="8915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Piles are possible subtopics for an outline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3962520" y="3733920"/>
            <a:ext cx="723960" cy="707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4324320" y="2971800"/>
            <a:ext cx="723960" cy="708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4838760" y="3733920"/>
            <a:ext cx="723960" cy="707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5791320" y="2590920"/>
            <a:ext cx="3346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Build your outline 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on-the-fly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>
            <a:off x="6172200" y="1219320"/>
            <a:ext cx="2666880" cy="2361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09480" y="5943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or create it before you take notes.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 flipV="1">
            <a:off x="4267080" y="2819520"/>
            <a:ext cx="243864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09480" y="586728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Drag notes and piles into your out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933640" y="990720"/>
            <a:ext cx="3143160" cy="5867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124080" y="4343400"/>
            <a:ext cx="5639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atch your outline grow as you add notecard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Organize flexibly and playfull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notes have similar titles or topic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Pile them together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Add them to your outlin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Experiment with the order, be curious!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if I make new combinations of note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Search by one or more tags to find common ideas among note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other ways can I order my outline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Do new grouping suggest new ways to analyze what I know?  New ideas?  New questions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95160" y="-360"/>
            <a:ext cx="64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Review, reflect, reorder, revis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When you think you’re done, take another look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6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Label details, themes, concept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Other ways to order my ideas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Reorder by searching on 2-3 tags at onc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y loose ends?</a:t>
            </a:r>
            <a:br>
              <a:rPr sz="2600"/>
            </a:b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re there types of sources I missed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Use           button to see the type and range of sources you used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  <p:pic>
        <p:nvPicPr>
          <p:cNvPr id="160" name="Picture 3" descr="6 Analysis_button.png"/>
          <p:cNvPicPr/>
          <p:nvPr/>
        </p:nvPicPr>
        <p:blipFill>
          <a:blip r:embed="rId1"/>
          <a:stretch/>
        </p:blipFill>
        <p:spPr>
          <a:xfrm>
            <a:off x="2133720" y="5848200"/>
            <a:ext cx="723960" cy="2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533600" cy="140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64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514600" y="146160"/>
            <a:ext cx="647712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Manage your project from the Dashboard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6320" y="22320"/>
            <a:ext cx="1904760" cy="434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9120" y="685440"/>
            <a:ext cx="8105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It’s easy to add more sources if you need to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:\Users\Debbie\Documents\1.Debbie\NoodleTools\Tutorials\Students\2012\2012 imagesNotes\second\archived.png"/>
          <p:cNvPicPr/>
          <p:nvPr/>
        </p:nvPicPr>
        <p:blipFill>
          <a:blip r:embed="rId1"/>
          <a:stretch/>
        </p:blipFill>
        <p:spPr>
          <a:xfrm>
            <a:off x="517680" y="1595520"/>
            <a:ext cx="8107200" cy="3666960"/>
          </a:xfrm>
          <a:prstGeom prst="rect">
            <a:avLst/>
          </a:prstGeom>
          <a:ln w="0">
            <a:noFill/>
          </a:ln>
        </p:spPr>
      </p:pic>
      <p:sp>
        <p:nvSpPr>
          <p:cNvPr id="170" name="Oval 9"/>
          <p:cNvSpPr/>
          <p:nvPr/>
        </p:nvSpPr>
        <p:spPr>
          <a:xfrm>
            <a:off x="504720" y="3048120"/>
            <a:ext cx="175284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90720" y="53341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d your work can never get los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362320" y="1522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You can create a portfolio over time…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553080" y="4724280"/>
            <a:ext cx="2071800" cy="538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your time thinking and creating (not on comma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41120" y="380880"/>
            <a:ext cx="7391520" cy="2362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029200" y="457200"/>
            <a:ext cx="4038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Find “big picture” info here: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Research question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Assignment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Group member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76320" y="2873520"/>
            <a:ext cx="190476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638680" y="152280"/>
            <a:ext cx="331488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ll your work is here including a record of what you’ve done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pic>
        <p:nvPicPr>
          <p:cNvPr id="67" name="Picture 2" descr="C:\Users\Debbie\AppData\Local\Temp\SNAGHTML40d39b68.PNG"/>
          <p:cNvPicPr/>
          <p:nvPr/>
        </p:nvPicPr>
        <p:blipFill>
          <a:blip r:embed="rId2"/>
          <a:stretch/>
        </p:blipFill>
        <p:spPr>
          <a:xfrm>
            <a:off x="5562720" y="2286000"/>
            <a:ext cx="3427200" cy="4255920"/>
          </a:xfrm>
          <a:prstGeom prst="rect">
            <a:avLst/>
          </a:prstGeom>
          <a:ln w="0">
            <a:noFill/>
          </a:ln>
        </p:spPr>
      </p:pic>
      <p:sp>
        <p:nvSpPr>
          <p:cNvPr id="68" name="Oval 10"/>
          <p:cNvSpPr/>
          <p:nvPr/>
        </p:nvSpPr>
        <p:spPr>
          <a:xfrm>
            <a:off x="3695760" y="990720"/>
            <a:ext cx="1752480" cy="75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5029200" y="16765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05120" y="2895480"/>
            <a:ext cx="7162560" cy="19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905120" y="213372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 can add reminders to yourself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6320" y="4800600"/>
            <a:ext cx="899136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28600" y="4191120"/>
            <a:ext cx="86709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75c"/>
                </a:solidFill>
                <a:latin typeface="Arial"/>
              </a:rPr>
              <a:t>Read feedback … then revise in an organized way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4543560" y="4648320"/>
            <a:ext cx="3581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ee feedback right on your notecar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04920" y="5924520"/>
            <a:ext cx="3047760" cy="62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Debbie Abilock</cp:lastModifiedBy>
  <dcterms:modified xsi:type="dcterms:W3CDTF">2012-07-24T14:55:17Z</dcterms:modified>
  <cp:revision>184</cp:revision>
  <dc:subject/>
  <dc:title>Slide 1</dc:title>
</cp:coreProperties>
</file>